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2E16-6901-4585-BCFE-4F55EEBA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EE9-F1C8-4B7F-B16D-821EE32C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5F2-961D-4337-BF50-2F0F24DC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990-B392-44A3-8FD4-CBE1DD711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0D6A-6776-443D-BAF1-CD933113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607-DD0E-4EA2-998D-843F028C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EB7-4697-41BE-BF35-B2ED44ED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011-F009-4D2F-8122-D3AF746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22B-58C2-47CC-B6AC-FE864CEB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972-4E51-4443-BA14-A99111ED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007-8D9F-43AC-95FC-10F7B9CD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759-9197-4F9A-A2F0-E1E4E9F5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4168-5712-4611-864C-FD928C542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Frequenc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s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an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a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t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c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li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u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he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w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g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m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se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a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SchoolText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4:55:02Z</dcterms:created>
  <dc:creator>Patrick Kevane</dc:creator>
  <dc:description/>
  <dc:language>en-US</dc:language>
  <cp:lastModifiedBy>Patrick Kevane</cp:lastModifiedBy>
  <dcterms:modified xsi:type="dcterms:W3CDTF">2011-10-11T15:30:41Z</dcterms:modified>
  <cp:revision>13</cp:revision>
  <dc:subject/>
  <dc:title>High Frequency Words</dc:title>
</cp:coreProperties>
</file>